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610-A6C2-4FFA-BAC4-9AEE7E08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AB5-13D2-4952-9A53-D08CC4CC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053-0F11-4409-95F6-70086A0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ECD-AC62-4158-B8F6-E4564975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6C9-0692-45E0-8EE1-0961DCDB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788-7D7F-4C35-B804-036AD5A1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EA0-4AF0-49BA-98F0-BB60574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84F-ED94-4956-A793-66B2AA1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66B-14FA-4451-B90E-418ADE4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729-BC7B-479A-9033-5F04F620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81E-9991-4087-AD30-16BB472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196-666D-4B30-8E5E-FA067D29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58840" y="5521320"/>
            <a:ext cx="533160" cy="491760"/>
            <a:chOff x="258840" y="5521320"/>
            <a:chExt cx="533160" cy="491760"/>
          </a:xfrm>
        </p:grpSpPr>
        <p:sp>
          <p:nvSpPr>
            <p:cNvPr id="1" name="Freeform 3"/>
            <p:cNvSpPr/>
            <p:nvPr/>
          </p:nvSpPr>
          <p:spPr>
            <a:xfrm>
              <a:off x="271080" y="55213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58840" y="5523480"/>
              <a:ext cx="533160" cy="489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85200" y="57571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44520" y="57776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21840" y="5640480"/>
              <a:ext cx="121680" cy="579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61520" y="58028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64920" y="57088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95160" y="57063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92640" y="57319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4320" y="57726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46920" y="58003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41880" y="58233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10640" y="57826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>
                <a:gd name="textAreaLeft" fmla="*/ 0 w 1098000"/>
                <a:gd name="textAreaRight" fmla="*/ 1098360 w 109800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2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6" name="Freeform 23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dt" idx="1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69A-9965-417C-A84C-BF8C5E0C63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vnet.eshunet.com/a/0900/0882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屏风"/>
          <p:cNvPicPr/>
          <p:nvPr/>
        </p:nvPicPr>
        <p:blipFill>
          <a:blip r:embed="rId1"/>
          <a:stretch/>
        </p:blipFill>
        <p:spPr>
          <a:xfrm>
            <a:off x="598320" y="498600"/>
            <a:ext cx="7796520" cy="577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4160" y="1687320"/>
            <a:ext cx="847692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室外（在院子或天井中）安置屏风，避免从门外直接望见厅室；屏，上面有书有画，既起分隔作用，又是艺术点缀；可以挡风；空间还是流通的；室内安置屏风与帷幕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449440" y="289080"/>
            <a:ext cx="64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作者从哪三个方面介绍了有关屏的知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讲解"/>
          <p:cNvPicPr/>
          <p:nvPr/>
        </p:nvPicPr>
        <p:blipFill>
          <a:blip r:embed="rId1"/>
          <a:stretch/>
        </p:blipFill>
        <p:spPr>
          <a:xfrm>
            <a:off x="593640" y="244440"/>
            <a:ext cx="1422360" cy="15559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 rot="5400000">
            <a:off x="-416160" y="2923920"/>
            <a:ext cx="2038320" cy="654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20640" y="5070600"/>
            <a:ext cx="6262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按屏风的建筑材料及其华丽程度来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 rot="5400000">
            <a:off x="7032600" y="5192640"/>
            <a:ext cx="14079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风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1176480" y="2017800"/>
            <a:ext cx="88920" cy="2307960"/>
          </a:xfrm>
          <a:custGeom>
            <a:avLst/>
            <a:gdLst>
              <a:gd name="textAreaLeft" fmla="*/ 56880 w 88920"/>
              <a:gd name="textAreaRight" fmla="*/ 89280 w 88920"/>
              <a:gd name="textAreaTop" fmla="*/ 60120 h 2307960"/>
              <a:gd name="textAreaBottom" fmla="*/ 2247840 h 23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flipH="1">
            <a:off x="6793920" y="5253120"/>
            <a:ext cx="114120" cy="1015920"/>
          </a:xfrm>
          <a:custGeom>
            <a:avLst/>
            <a:gdLst>
              <a:gd name="textAreaLeft" fmla="*/ 73080 w 114120"/>
              <a:gd name="textAreaRight" fmla="*/ 114480 w 11412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798480" y="2162160"/>
            <a:ext cx="79376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需因地制宜，在与整体的相称、安放的位置与作用、曲屏的折度、视线的远近诸方面，均要做到得体才是。一言以蔽之，屏风的功用与设置全在一个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1320840" y="2627280"/>
            <a:ext cx="88920" cy="2308320"/>
          </a:xfrm>
          <a:custGeom>
            <a:avLst/>
            <a:gdLst>
              <a:gd name="textAreaLeft" fmla="*/ 56880 w 88920"/>
              <a:gd name="textAreaRight" fmla="*/ 89280 w 88920"/>
              <a:gd name="textAreaTop" fmla="*/ 60120 h 2308320"/>
              <a:gd name="textAreaBottom" fmla="*/ 2248200 h 230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 rot="5400000">
            <a:off x="-262800" y="3729600"/>
            <a:ext cx="2046240" cy="857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设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strips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43080" y="239760"/>
            <a:ext cx="86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作者给我们介绍的这种造型精巧，用途广泛，历史悠久且有深刻的文化底蕴的工艺品，我们可以看出作者对它的感情如何？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326600" y="2625840"/>
            <a:ext cx="36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便不禁心生向往之情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9520" y="349416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是很有诗意的名词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453680" y="4438800"/>
            <a:ext cx="38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其情境真够令人销魂的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04720" y="5249880"/>
            <a:ext cx="55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擅长在屏上做这种功能与美感结合的文章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81840" y="2847960"/>
            <a:ext cx="158760" cy="3483000"/>
          </a:xfrm>
          <a:custGeom>
            <a:avLst/>
            <a:gdLst>
              <a:gd name="textAreaLeft" fmla="*/ 0 w 158760"/>
              <a:gd name="textAreaRight" fmla="*/ 57240 w 158760"/>
              <a:gd name="textAreaTop" fmla="*/ 90720 h 3483000"/>
              <a:gd name="textAreaBottom" fmla="*/ 3392280 h 34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351480" y="2706840"/>
            <a:ext cx="23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些句子自然的流露出作者对屏那种喜爱和向往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47640" y="201600"/>
            <a:ext cx="81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那作者还借用什么样的方法来表达自己的感情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dm1"/>
          <p:cNvPicPr/>
          <p:nvPr/>
        </p:nvPicPr>
        <p:blipFill>
          <a:blip r:embed="rId1"/>
          <a:stretch/>
        </p:blipFill>
        <p:spPr>
          <a:xfrm>
            <a:off x="1268280" y="1523880"/>
            <a:ext cx="4178520" cy="2271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08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79440" y="3789360"/>
            <a:ext cx="4388040" cy="2286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 rot="5400000">
            <a:off x="-451080" y="3500280"/>
            <a:ext cx="2192400" cy="70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引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365800" y="1631880"/>
            <a:ext cx="37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银烛秋光冷画屏，轻罗小扇扑流萤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638680" y="3960720"/>
            <a:ext cx="31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牡丹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戏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050280" y="604836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引用的作用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483160" y="1168560"/>
            <a:ext cx="366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给我们营造俊逸清雅的艺术氛围，流露出自己对屏的喜爱和向往之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553000" y="3970440"/>
            <a:ext cx="35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既增添了想象空间，又使文章更加流光异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8520" y="345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讲的是屏风，而着眼点就是在如何使用屏风，第三部分做了详细介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8000" y="1714320"/>
            <a:ext cx="8488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屏风的大小要因地制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其造型、色彩及上面的绘画都不能马虎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它的设置要与整体相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它的安放位置与作用，曲屏的折度、视线的远近等各方面都要做到得体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27160" y="3430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文章最后一段，思考：“希望那些建筑师和家具师能够还屏丰富的文化内涵。”作者结尾引用诗句来表达这个愿望有什么好处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41280" y="3070080"/>
            <a:ext cx="85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富有诗意的语言来提倡屏的文化内涵，是平实的说明中流动着诗歌的韵律，使文章生动而富有文采。充满了诗情画意，也更好表达作者希望人们更好的开发和使用屏风的愿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74840" y="663480"/>
            <a:ext cx="84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刚刚我们体会到文章所用的说明方法中最吸引人的就是作引用，那作者巧妙的运用，展现出文章语言有什么特色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19200" y="3562200"/>
            <a:ext cx="805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文章语言生动而富有文采，字里行间流露出感情，大量诗词的引用是行文中荡漾着诗情画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3141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268360" y="189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表现作者对屏风的感情，巧妙点出屏风的特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340000" y="2060640"/>
            <a:ext cx="65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～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介绍 在室内、室外安置屏风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195640" y="414972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如何使用屏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268360" y="5425920"/>
            <a:ext cx="64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点明写作本文的用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692360" y="692280"/>
            <a:ext cx="647640" cy="54021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40760 h 5402160"/>
              <a:gd name="textAreaBottom" fmla="*/ 5261400 h 540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80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小     结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0280" y="820440"/>
            <a:ext cx="86328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作者用生动的语言介绍了屏风的使用功能和装饰功能，并发表了自己的看法，抒发了对屏风的热爱之情。希望借此唤起建筑师、家具师乃至使用者的注意，以期待屏风所具有的文化内涵永远散发着不朽的艺术魅力。我们也期待着，屏风在今天的装饰艺术中焕发出青春，重新大放异彩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4160" y="259920"/>
            <a:ext cx="85406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堂练习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168560"/>
            <a:ext cx="860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给形似字注音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116000" y="155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í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700360" y="1773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屏风</a:t>
            </a:r>
            <a:r>
              <a:rPr b="1" lang="zh-CN" sz="4000" spc="-1" strike="noStrike">
                <a:solidFill>
                  <a:srgbClr val="00cc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292720" y="1557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ìng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732720" y="1700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摒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116000" y="220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í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659640" y="2421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流萤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5292720" y="2852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xiāo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732720" y="2997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消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116000" y="350028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ā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2700360" y="3789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伧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5292720" y="213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í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700360" y="2492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晶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1116000" y="28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xiā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2771640" y="306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销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21964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āng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6804000" y="3716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沧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二、指出下列各句的说明方法。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94932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牡丹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游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出中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锦屏人忒看得这韶光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句，用锦屏人来代指闺中女郎。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按屏的建造材料及其装饰的华丽程度，分为金屏、银屏、锦屏、画屏、石屏、木屏、竹屏等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近来我也注意到，屏在许多餐厅、宾馆中用的很普遍，可是总勾不起我的诗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屏者，障也，可以缓冲视线。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08360" y="1871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引用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368520" y="3510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类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343640" y="571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下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156200" y="5056200"/>
            <a:ext cx="25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仕女图六曲屏风"/>
          <p:cNvPicPr/>
          <p:nvPr/>
        </p:nvPicPr>
        <p:blipFill>
          <a:blip r:embed="rId1"/>
          <a:stretch/>
        </p:blipFill>
        <p:spPr>
          <a:xfrm>
            <a:off x="928800" y="1592280"/>
            <a:ext cx="7219800" cy="3989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仕女图六曲屏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crow1"/>
          <p:cNvPicPr/>
          <p:nvPr/>
        </p:nvPicPr>
        <p:blipFill>
          <a:blip r:embed="rId1"/>
          <a:stretch/>
        </p:blipFill>
        <p:spPr>
          <a:xfrm>
            <a:off x="1488960" y="1623960"/>
            <a:ext cx="3349800" cy="3700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玉屏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22" name="Picture 3" descr="玉屏风"/>
          <p:cNvPicPr/>
          <p:nvPr/>
        </p:nvPicPr>
        <p:blipFill>
          <a:blip r:embed="rId1"/>
          <a:stretch/>
        </p:blipFill>
        <p:spPr>
          <a:xfrm>
            <a:off x="754200" y="1484280"/>
            <a:ext cx="7449840" cy="44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7600" y="696600"/>
            <a:ext cx="864108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屏风历来是我国室内的主要器具之一。我国古代建筑大都是土木结构的院落形式，不如今世钢筋水泥房屋那么严紧。为了挡风，古人开始制造屏风这种家具。除了挡风，屏风还是建筑物中可以移动的精巧片段，有的在床后安置屏风，亦作倚靠或挂置什物之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005029"/>
          <p:cNvPicPr/>
          <p:nvPr/>
        </p:nvPicPr>
        <p:blipFill>
          <a:blip r:embed="rId1"/>
          <a:stretch/>
        </p:blipFill>
        <p:spPr>
          <a:xfrm>
            <a:off x="7591320" y="5672160"/>
            <a:ext cx="1552680" cy="1185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Arial"/>
                <a:ea typeface="黑体"/>
              </a:rPr>
              <a:t>说“屏”</a:t>
            </a:r>
            <a:endParaRPr b="0" lang="en-US" sz="15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陈从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957240"/>
            <a:ext cx="852336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陈从周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18-200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浙江杭州人，古建筑园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专家 。当代著名建筑学家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园林艺术家、散文家，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工诗词书画。曾任中国园林学会顾问、中国建筑学会建筑史委员会副主任、美国贝聿铭建筑事务所顾问等。著有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说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园林谈丛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苏州园林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等二十余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652320" y="189000"/>
            <a:ext cx="178596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走近作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29" name="Picture 4" descr="陈从周"/>
          <p:cNvPicPr/>
          <p:nvPr/>
        </p:nvPicPr>
        <p:blipFill>
          <a:blip r:embed="rId1"/>
          <a:stretch/>
        </p:blipFill>
        <p:spPr>
          <a:xfrm>
            <a:off x="6372360" y="371520"/>
            <a:ext cx="2423880" cy="317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33360" y="909720"/>
            <a:ext cx="860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听课文朗读，思考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192120" y="2247840"/>
            <a:ext cx="17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请用原文给屏下一个定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06520" y="3800520"/>
            <a:ext cx="79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作者从哪三个方面介绍了有关屏的知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8360" y="230040"/>
            <a:ext cx="47955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华文行楷"/>
                <a:ea typeface="华文行楷"/>
              </a:rPr>
              <a:t>字词积累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4840" y="891720"/>
            <a:ext cx="81392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伧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造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擅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帷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69400" y="866880"/>
            <a:ext cx="15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èi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方言，太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852000" y="1535040"/>
            <a:ext cx="21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粗俗鄙陋。伧，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āng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64520" y="23605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创造出来的物体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41320" y="3098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某方面有特长。擅，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àn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708200" y="3884760"/>
            <a:ext cx="71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挂在较大的屋子里或舞台上的遮掩用的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10560" y="5046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休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407680" y="5133960"/>
            <a:ext cx="29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休息。憩，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53400" y="5729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徒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695400" y="5742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无益地耗费劳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84040" y="5597280"/>
            <a:ext cx="90741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屏者，障也，可以缓冲一下视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仕女图六曲屏风"/>
          <p:cNvPicPr/>
          <p:nvPr/>
        </p:nvPicPr>
        <p:blipFill>
          <a:blip r:embed="rId1"/>
          <a:stretch/>
        </p:blipFill>
        <p:spPr>
          <a:xfrm>
            <a:off x="1839960" y="1663560"/>
            <a:ext cx="6769080" cy="3743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667760" y="693720"/>
            <a:ext cx="17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请用原文给屏下一个定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讲解"/>
          <p:cNvPicPr/>
          <p:nvPr/>
        </p:nvPicPr>
        <p:blipFill>
          <a:blip r:embed="rId2"/>
          <a:stretch/>
        </p:blipFill>
        <p:spPr>
          <a:xfrm>
            <a:off x="384120" y="258840"/>
            <a:ext cx="1422360" cy="1555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06:48:48Z</dcterms:created>
  <dc:creator/>
  <dc:description/>
  <cp:keywords/>
  <dc:language>en-US</dc:language>
  <cp:lastModifiedBy>微软用户</cp:lastModifiedBy>
  <dcterms:modified xsi:type="dcterms:W3CDTF">2014-09-19T07:19:56Z</dcterms:modified>
  <cp:revision>56</cp:revision>
  <dc:subject/>
  <dc:title>幻灯片 1</dc:title>
</cp:coreProperties>
</file>